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F7DA-4445-4501-ACF7-98CAA9FDAF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5821-0868-4F32-B4BB-2F8B6C58D0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A52E-7D0F-4E9F-A4C2-ECC09734C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AD4B-ADD8-4AD2-9DAF-053E18059F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49EA6-0B89-43D2-8054-3C3E23037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7907-8EB6-48B4-A919-C74D3B12F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74B4-FEBA-409D-8789-41E3F979B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CCFC-ECAB-4F06-83CB-69CD685CE3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B027-E44F-4CFF-97E4-EB6FA082D4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7F63-BD65-4DA1-966D-5620D5CC94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3275-364A-4B67-B9D9-934FBD3423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01D4F-45B0-490A-BA9E-9E41657144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EA95-1908-45BB-BCA0-13556E18F5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7502-A21A-4E60-A3C9-B5E77A8871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31B6-9BE3-498C-8019-6D613DD91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27119-5942-46AC-90DC-61BD7C441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44BB-3633-430D-BE9E-7775D8827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BDC3-E3D0-475A-9CCE-534C4903B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128E-A72E-4CFE-B511-CBCDE14A0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A47CB-8F96-436B-ACD7-35CC0EA24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266BC-699C-4898-A9E2-A99A01181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7610-2412-4AB0-8A73-331BEA13D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3C582-5317-4B77-AF8E-913895BA4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4953-3590-47F2-B71C-040459A26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59DC-DCB0-48CF-8521-671361B7C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822C-0FF5-47DE-9E62-AF09F73612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8EFC-214E-45F8-9855-4AF4F48E0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9093-9838-4C12-AA84-4E71410F6A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4D46-60F9-4B6C-B4AD-D83FBDB84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B3D5-E288-4E43-BA1A-BA1CB785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4B36-FEAF-4496-9F73-FAA16890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114B-276B-45E1-A458-8ADF3840B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D60B-9664-42BD-B6C6-FDEB112B0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30F25-83F2-4771-93A2-84CE4EF7D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597A-8639-48B8-863E-B087C126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C17A2-3238-4E2B-855B-FBACBF312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8636-5C7A-486F-BCD6-665FB459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5740-2A1C-4EFB-AB6D-2BCE00F4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D13D7-D168-471F-AF03-57BFE5E8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BC13-8889-4E2D-8B8C-B1BF85EF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F3BB-FF6D-459C-936E-E031A091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2FA3-2B2A-4481-B0D1-B4C10680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D71A-0FAD-49D1-AF70-C38DA219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0B45A-7CA1-430D-9894-8788D01D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E59F2-FCF0-4F29-9778-7C4DD80D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D776C-BF90-49F4-A94A-7C62D7654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4A60C7-38F8-4088-908F-5F40DE219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D6E3F-F183-4343-9097-0AD1F817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6F61F5-0657-411C-9234-B2EE06BD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29241-F866-4C04-81AA-52F20EE9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7A3D9-9D10-40E1-BC2A-A8EEBE2F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89B7-4AA7-44BF-8C3C-B1E9674E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8874AE-EA57-4BBF-AB38-8A71C3EC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6BC1F2-94C7-4314-ADC7-980FF2BF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5C3740-29AD-4410-9E2D-513A22AA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722A83-62F8-43BF-9F26-A278D3743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2033B2-1819-4E02-923C-8BC2411C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B6CFB-21E8-4C22-A094-6F485011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43A331-B63B-4D23-8AEB-E96CBA0C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F682B2-CEDE-4BD8-A291-857AAE50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9B954E-A9F6-49F3-80CD-D8BADD57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93B465-3414-432D-9CFD-597F6C33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A4E9-C083-496E-9D85-293622391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1EC464-E91B-4B07-9764-BAF4808C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9E4AC0-7F6A-4494-BE77-19D952D9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201979-889B-48DA-B664-88155D2D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0E0F1D-0A27-4C53-9EDC-B43BDF2B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42230C-94EF-4364-81D8-D5A61969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EF594D-26E8-4111-A302-78B8FDD5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18F9E4-6CC5-45D2-A9BC-854E0864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912C4B-57B8-4A83-A428-E02563DBB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05423F-A574-41CE-B131-A2D2946B5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425635-A020-4A71-953F-BA48B51C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E264-FDC3-4D2B-B709-C99C9CD0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7AE7AC-5CC6-457D-B21E-F50F391E5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0EBA0B-C962-483A-9730-F95B193A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D30E5F-D8E4-4733-9C04-2FC2278E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44F8AD-8267-4EBA-828B-9D2AA684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647542-3931-401A-A158-DBCC209C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20BC5-7FDC-4086-B805-45FD6733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3676A1-E4E3-4DEC-B48B-109CF802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B89672-49CA-474B-9ECA-43C108C9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E199C6-FF83-4311-84F9-9A20FD89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3B9AC4-2277-45F2-8A70-94C785164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CFCA-B119-4CDD-9D30-0B1153AE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6C206F-3D6C-4BA6-8B91-3411B53A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6822B-5C2A-4FB2-9B56-ACC8AB409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B88A3-674E-4DAC-A073-B0231C09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33F63A-0ECD-4080-A0F1-75C7E184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A29F4-9E3D-4987-917F-7518F92A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C8A77-AB69-4E44-BE38-B49AF8B6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CD598-6CDE-496A-BA8D-6E03F842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5AAAA-E0C5-4F07-961C-578ECE20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33DA11-18ED-4537-82F4-C903F190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21DE5-7D83-41CD-AA9F-B2CD7587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CCA5-A42B-4E3A-8A68-08B7CA81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AF8FF-D76F-48B0-9F89-275A34E2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15223-C575-46FE-A999-1865201D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D26A1-780D-477C-92D8-D3F3FF335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4A4D66-A34E-43FD-8C47-6FC993DE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E18CE1-ED8E-4D3D-B91C-FA8A58A5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C4AE8D-EECD-4F07-8B86-72DEFD49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580A41-7795-4F07-8F24-F3A6AE63D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BD5E5B-55CB-4D0E-9C30-EB1A9591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6E9813-80AE-437D-B4FD-9C9600A27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4D7E42-C800-4DB0-AAFD-2E30ABBB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7D21-46BF-4B90-8A1B-1F20457A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24F78F-00A6-4708-8AA8-DB352C0E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3FFEA2-0ACA-4547-A9B0-1E183744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C8AB94-F339-41CA-A20C-FA37C1D3E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244D38-A33B-40C8-9C39-5B5543DE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42FC2A-7348-4CC2-9913-E90B40732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94CAC4-2FA8-4695-8799-01315587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70456-E881-41DA-AF05-97BDDDF5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1C63B-FB4B-4385-910E-C41750D9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A8487-B0EE-468C-912A-10DC4ADE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0B6EB-B681-496D-92FB-8214241E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9E9-8E5F-4348-ACF3-19B93644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CC98D5-F540-4D01-A278-A00A10DF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57B4F-A808-4C73-A79D-CA6460B1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FAC92-EB14-4385-9F2E-BCAB208F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EA542-8AA4-47A9-ADD2-DE89E805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3A5F5-40BC-40E4-AB28-434D919A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AE955-1CBE-442C-BF98-B1B5CA3A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9A5C1-035A-4A82-B3F5-B49E4EE6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DEF3D-6252-4941-8F62-A94CC28FB41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B974-ECB6-4D7E-AFBF-1CF6FED6DB0B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BA91-3F14-424A-B238-39668DAFFFFA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014F-42B5-406A-96DA-4B859180A67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B62F-58BE-4E7D-AF10-F70CC2C4506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85C5-FE6F-4D77-9562-AF09C4AB7A4B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8E183-B0C5-48F2-8485-5EAD7485E2D6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80A5-4F8A-4844-9591-CB0380BE5B7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4038480"/>
            <a:ext cx="647676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NORTH CAROLINA</a:t>
            </a:r>
            <a:br>
              <a:rPr sz="4000"/>
            </a:br>
            <a:r>
              <a:rPr b="0" lang="en-US" sz="4000" spc="-1" strike="noStrike">
                <a:solidFill>
                  <a:srgbClr val="ebddc3"/>
                </a:solidFill>
                <a:latin typeface="Tw Cen MT"/>
              </a:rPr>
              <a:t>                      STATE PARKS</a:t>
            </a:r>
            <a:endParaRPr b="0" lang="en-US" sz="40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                 </a:t>
            </a: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See the beauty of the Tar Heel State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ones Lake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404040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han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Joh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2" name="Content Placeholder 4" descr="jones lake.jpg"/>
          <p:cNvPicPr/>
          <p:nvPr/>
        </p:nvPicPr>
        <p:blipFill>
          <a:blip r:embed="rId1"/>
          <a:stretch/>
        </p:blipFill>
        <p:spPr>
          <a:xfrm>
            <a:off x="2700360" y="1905120"/>
            <a:ext cx="595476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 Great Geological Myster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ichael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Jones Lake is on of the Carolina bays – one of the greatest geological mysteries of the eastern U.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bays are called that because the sweet bay, loblolly bay, and red bay that grow around them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t was named for a justice of the peace in the mid – 1700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f I could go there I would like to go at night where people gather to view meteor shower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Dismal Swamp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ichael M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88" name="Content Placeholder 7" descr="vicky tgaw flickr.jpg"/>
          <p:cNvPicPr/>
          <p:nvPr/>
        </p:nvPicPr>
        <p:blipFill>
          <a:blip r:embed="rId1"/>
          <a:stretch/>
        </p:blipFill>
        <p:spPr>
          <a:xfrm>
            <a:off x="2616120" y="1752480"/>
            <a:ext cx="5892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Perfect Pla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reat Dismal Swamp is a great place to relax and unwind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t is home to many rare insects and animal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ome scientists believe it was formed when a continental shelf made it’s last shift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f we could go there we would go swimming first. (The water isn’t that dirty!) Then we would go fishing and go home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Falls Lake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rand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3" name="Content Placeholder 4" descr="falls lake.jpg"/>
          <p:cNvPicPr/>
          <p:nvPr/>
        </p:nvPicPr>
        <p:blipFill>
          <a:blip r:embed="rId1"/>
          <a:stretch/>
        </p:blipFill>
        <p:spPr>
          <a:xfrm>
            <a:off x="2676600" y="1905120"/>
            <a:ext cx="5772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 Peaceful Paradi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09120" y="15998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alls Lake State Park give people in Raleigh a place to go and relax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Animals like dear and rabbit are found there. At night you can hear great-horned, barred, and screech owls. Cool!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Fall Lake was created by a dam in 1978 to keep the area from flooding and store water for people in the area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If I could go to the park I would like to go at night to hear the owls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t. Mitchell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355d7e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Morga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Justyna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98" name="Content Placeholder 4" descr="mount mitchell.jpg"/>
          <p:cNvPicPr/>
          <p:nvPr/>
        </p:nvPicPr>
        <p:blipFill>
          <a:blip r:embed="rId1"/>
          <a:stretch/>
        </p:blipFill>
        <p:spPr>
          <a:xfrm>
            <a:off x="2862360" y="1981080"/>
            <a:ext cx="55083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              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 extraordinary place!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8580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re than 1 billion  years ago  the Black Mountains were forme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ount Mitchell is the tallest peak out of all the Black Mountain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limate of the Black Mountains is more like Canada than North Carolina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wild flower in Mount Mitchell is a ox-eye daisy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dd8047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orges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81875a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utum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ara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Content Placeholder 4" descr="gorges.jpg"/>
          <p:cNvPicPr/>
          <p:nvPr/>
        </p:nvPicPr>
        <p:blipFill>
          <a:blip r:embed="rId1"/>
          <a:stretch/>
        </p:blipFill>
        <p:spPr>
          <a:xfrm>
            <a:off x="2743200" y="2133720"/>
            <a:ext cx="529740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orges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utumn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Sarah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Gorges State Park only became a park in 1999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t has waterfalls, rugged river gorges, sheer rock wall all in one park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dustry – Duke Energy Corporation, environmental community, and Transylvania County went together to get the park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Since it is more like a tropical rainforest with plants from the tropics I would like to spend the week and pretend I am on vacation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Medoc Mountain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81875a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arlos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Kevi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1" name="Content Placeholder 6" descr="medoc mt.jpg"/>
          <p:cNvPicPr/>
          <p:nvPr/>
        </p:nvPicPr>
        <p:blipFill>
          <a:blip r:embed="rId1"/>
          <a:stretch/>
        </p:blipFill>
        <p:spPr>
          <a:xfrm>
            <a:off x="2895480" y="2057400"/>
            <a:ext cx="521028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aw River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558bb8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Rashee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Jav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9" name="Content Placeholder 4" descr="haw river.jpg"/>
          <p:cNvPicPr/>
          <p:nvPr/>
        </p:nvPicPr>
        <p:blipFill>
          <a:blip r:embed="rId1"/>
          <a:stretch/>
        </p:blipFill>
        <p:spPr>
          <a:xfrm>
            <a:off x="2568600" y="1981080"/>
            <a:ext cx="5987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 Paradise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Rasheem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Ja’Vo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arents send their 2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nd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– 6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w Cen MT"/>
              </a:rPr>
              <a:t>th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grade students there in the summer for camp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s is the first ever residential environmental education program in N.C. State Park histor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You can learn about animal adaptation, forest ecology, fox, rabbit and coyot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67840" indent="-26784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  <a:ea typeface="Arabic Typesetting"/>
              </a:rPr>
              <a:t>If we could go for the day… we would like to stay for the week  and go to camp!!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Occoneechee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578279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usti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Justi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5" name="Content Placeholder 4" descr="occnecchee mt.jpg"/>
          <p:cNvPicPr/>
          <p:nvPr/>
        </p:nvPicPr>
        <p:blipFill>
          <a:blip r:embed="rId1"/>
          <a:stretch/>
        </p:blipFill>
        <p:spPr>
          <a:xfrm>
            <a:off x="2584440" y="1905120"/>
            <a:ext cx="59562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Important Natural Area in the Triangle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cconeechee Mountain is the highest point in Orange Count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 animal like the brown elfin butterfly are found here. They usually live 100 miles away in the mountain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 was named for the Occaneechi Indians that lived near by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is not much to do but hike and fish. I would like to catch a bas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Jockey’s Ridge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558bb8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aleb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Rya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0" name="Content Placeholder 5" descr="ocracoke 030.JPG"/>
          <p:cNvPicPr/>
          <p:nvPr/>
        </p:nvPicPr>
        <p:blipFill>
          <a:blip r:embed="rId1"/>
          <a:stretch/>
        </p:blipFill>
        <p:spPr>
          <a:xfrm>
            <a:off x="2616120" y="1752480"/>
            <a:ext cx="58928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 Great Big Sandbox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ockey’s Ridge  is a great place for a summer vacation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park is filled with animals and plants such as mice and the Dogwoo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ockey’s Ridge was a landmark for explorers in early1800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yan would go play in the sand dunes. 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leb would build huge castle, then hang glid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5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ere in the State are Those Park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24" name="Content Placeholder 3" descr="nothing ever happens 080.JPG"/>
          <p:cNvPicPr/>
          <p:nvPr/>
        </p:nvPicPr>
        <p:blipFill>
          <a:blip r:embed="rId1"/>
          <a:stretch/>
        </p:blipFill>
        <p:spPr>
          <a:xfrm>
            <a:off x="693720" y="1600200"/>
            <a:ext cx="7991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arks Sorted by Reg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15200" rIns="115200" tIns="72000" bIns="720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2362320" y="1752480"/>
          <a:ext cx="6400800" cy="3708360"/>
        </p:xfrm>
        <a:graphic>
          <a:graphicData uri="http://schemas.openxmlformats.org/drawingml/2006/table">
            <a:tbl>
              <a:tblPr/>
              <a:tblGrid>
                <a:gridCol w="2133360"/>
                <a:gridCol w="2133720"/>
                <a:gridCol w="2133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oastal Pl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iedmo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Mounta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rolina Be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doc Mounta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or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smal Swa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Occoneech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t. Mitch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Jockey’s Rid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aw R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ew Ri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Jones 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alls L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ake Waccama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ictures Used in Present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371600" y="1676520"/>
          <a:ext cx="6400800" cy="3517920"/>
        </p:xfrm>
        <a:graphic>
          <a:graphicData uri="http://schemas.openxmlformats.org/drawingml/2006/table">
            <a:tbl>
              <a:tblPr/>
              <a:tblGrid>
                <a:gridCol w="640080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Medoc Mountain, Jones Lake, Lake Waccamaw, Gorges, Falls Lake, Mt. Mitchell, New River, Haw River – NC State Parks site http://www.ncparks.gov/Visit/main.ph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ismal Swamp – by Viki tgaw at Flick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Jockey’s Ridge, Classroom map – by Terri Hawl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 quiet place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Medoc Mountain is not really a Mountain at al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imals are having peace ,calm and quiet  while plants are opening and danc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Kevin , I would rest while birds are chirping and sing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arlos, I would climb trees, go swimming, and hear the animals play and s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arolina Beach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726868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Toni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Jaim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66" name="Content Placeholder 4" descr="carolina beach.jpg"/>
          <p:cNvPicPr/>
          <p:nvPr/>
        </p:nvPicPr>
        <p:blipFill>
          <a:blip r:embed="rId1"/>
          <a:stretch/>
        </p:blipFill>
        <p:spPr>
          <a:xfrm>
            <a:off x="2602080" y="1981080"/>
            <a:ext cx="59212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he Carolina Beach with fu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 Indians used to rule the  Carolina Beach until they  were defeated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f you are going fishing you can catch a Stripe Bass fish or a Sheep Shad fish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is a plant that catches flies and insects at the State Park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time you can go swimmin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re are long leaf pines. They is beautiful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ake Waccamaw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558bb8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Lauryn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rittan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1" name="Content Placeholder 4" descr="lake waccamaw.jpg"/>
          <p:cNvPicPr/>
          <p:nvPr/>
        </p:nvPicPr>
        <p:blipFill>
          <a:blip r:embed="rId1"/>
          <a:stretch/>
        </p:blipFill>
        <p:spPr>
          <a:xfrm>
            <a:off x="2768760" y="1905120"/>
            <a:ext cx="59371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ake Waccamaw is a tea-colored lake that is home to plants and animals there are no where else in the world.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t has 9,000 acres of lake with 14 miles of shorelin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ome rare plants found there are the Venus-hair fern, green-fly orchid, seven-angled pipewort, narrowleaf yellow pondlily and water arrowhead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ew River State Par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578279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w Cen MT"/>
              </a:rPr>
              <a:t>Charlotte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76" name="Content Placeholder 5" descr="new river.jpg"/>
          <p:cNvPicPr/>
          <p:nvPr/>
        </p:nvPicPr>
        <p:blipFill>
          <a:blip r:embed="rId1"/>
          <a:stretch/>
        </p:blipFill>
        <p:spPr>
          <a:xfrm>
            <a:off x="2338560" y="1981080"/>
            <a:ext cx="6448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72520"/>
            <a:ext cx="807732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 National Scenic River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1600200" cy="4343400"/>
          </a:xfrm>
          <a:prstGeom prst="rect">
            <a:avLst/>
          </a:prstGeom>
          <a:solidFill>
            <a:srgbClr val="dd8047"/>
          </a:solidFill>
          <a:ln cap="sq" w="50760">
            <a:solidFill>
              <a:srgbClr val="dd8047"/>
            </a:solidFill>
            <a:miter/>
          </a:ln>
        </p:spPr>
        <p:txBody>
          <a:bodyPr lIns="137160" rIns="137160" tIns="182880" bIns="91440" anchor="t">
            <a:normAutofit/>
          </a:bodyPr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By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indent="0"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harlott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362320" y="175212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New River is one of the oldest rivers in North America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re are many hardwoods, pines, and wildflowers thanks to very fertile soil. Many rare plants grow there like rattlesnake root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New River dates back to a time before the mountains – millions of years ago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f I could go for the day I would love to canoe down the river, through the mountains, and see the trees and flowers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0:47:06Z</dcterms:created>
  <dc:creator>bcsuser</dc:creator>
  <dc:description/>
  <dc:language>en-US</dc:language>
  <cp:lastModifiedBy>bcsuser</cp:lastModifiedBy>
  <dcterms:modified xsi:type="dcterms:W3CDTF">2009-02-21T14:17:13Z</dcterms:modified>
  <cp:revision>16</cp:revision>
  <dc:subject/>
  <dc:title>North Carolina                       State Parks</dc:title>
</cp:coreProperties>
</file>